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F91C-02CA-451B-96A5-5D9FABE7E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F4DC-B896-4851-B0AE-ABF5D31C0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E2F5-E655-4298-B9A9-B42420F01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CE20-1CDB-465F-B1F5-0E4E77B3C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E2CA-A937-471E-9A64-B2CBFE94D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7D66-0CD7-47CC-89B0-83EC129F8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685F-24CE-4ADB-9915-73B7CAB01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398E-85EE-404A-8FB4-0277EF42C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44A1-B261-4265-88EA-1134E7E78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F411-A4BB-4903-A358-34C8EBA1B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1260-E096-4017-8033-7D86BC2A3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4F7E-CD3D-44D8-98FC-0AA6CE704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A680-8B06-4BA5-AB43-C3339B2B9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07A9-F0B6-4E0F-9669-AAC706891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80E8-CDF0-4D90-A4FD-C2EDE1304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1D50-3800-4601-868E-451A96ABA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C4AC-F23D-4D5D-AAD0-495C693A6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3F3F-39CF-4B46-B261-A4BE59A60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7F52-0736-4A60-BD3C-766130CCC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D2AE-7A09-439C-9290-EE3EDC6C7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34E8-8D77-4D9E-B9E7-24BC41153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F2EA-FD5E-489A-894E-ECACAB596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0998-BA98-46F3-A300-2BEC03816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5790-35EC-48D2-9666-74C33ECDB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730-B6CF-4D85-99EC-776AE26E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2E2-7454-43A1-A5E2-626231D2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6AE-928E-4CD4-BCF3-6E91A59C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6E1-CDBC-470D-BEF6-FFCB476E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FE46-AE0C-43CB-B36F-D347E2C7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2308-FFA1-4029-BE3E-9557F7E1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6688-340C-4138-9112-D25EA8EB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14A1-C1B4-41F0-A59B-608E4E52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58D9-F709-411E-B8AD-E5CBD7A5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3CD6-491F-441E-BBF9-C561339A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BE30-8FBC-4151-968D-5614AD47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4C3-22B4-402F-852F-948121C6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3C28-FF91-4117-9EBE-EC943C5C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1667-2A6B-4368-B1E5-C9238A57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C59B-3778-498E-8964-D45B3C25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E08B-3E00-4B69-8D5A-71825841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B119-4427-48D7-AFD9-3CB2B7A5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45C8-6AF0-443F-8B10-EA8D1E62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09AC1-90FF-4178-9143-7EBD1C17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E0E32-305E-4FC2-B09A-F8959232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3709-6D95-4967-8DDB-DFED4BB7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26A4-A1DD-44F4-AD6F-7EABE9CA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8E1-9229-448F-944F-D9A64612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5360-6842-4E83-9ED3-A0E9EE78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9803-A24D-479E-B758-87FCCC1E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1218-B9CD-4640-BD8D-084999D2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2DBB-E173-4821-99F1-D9BE23F7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1A9E-B67D-44F2-8AE3-B8AF1103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5287-5F4E-43BC-A183-A90B75D3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9008-0466-443C-AB5C-464BDCCE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13549-3EBA-4DC8-A0B5-9C79F623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4A3C6-19F1-4039-94E9-B63C0CD7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CA439-391C-4389-A122-3F7AC407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053-8756-44E8-9EF2-AB4ED66C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5B0BE-F8AF-49FA-A190-8455EB2A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6F00A-803E-43D8-866D-6F61F9E3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5598F-3119-4795-9E0B-D5FC2719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A63BE-7E82-4D51-9B59-1C49F758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12623-E469-4F19-B5F5-7E4C7305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6BD46-AC14-468A-AD9C-0C310F51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6B7F-60FF-4FF5-A27F-7D98EAC2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888E9-A968-4258-B968-0B3AC5E8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A46A3-F0A8-4340-A946-5AC2A6A0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B0D69-0D6C-4FCF-B6CA-036202C4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EE7-B285-4AC3-B71E-A0FE0166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DA513-3353-4E9D-B220-3AEB02EC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46849-23DA-4F54-8725-4E6FD61C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8285F-1AB1-4A76-B20E-483946DB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40DB5-13F4-4AF6-AF30-19316E26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A822C-2685-41F9-97D2-86B5646F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6423C-3B87-4661-9330-89CF45E2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B7390-F090-418B-BAFE-1F2C2686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41718-D8B6-464F-97D1-EC8EF7A1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E787B-65E1-45B1-A9DA-2C6CAC72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9EC4C-631B-4C6A-BBE3-3F7FFC42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DA7-A5C1-4D40-AFD4-E6C7B918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E8368-49AF-42DF-B58D-711D4C3B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258A5-E5EB-4742-977D-79A67A4C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CE5BA-2751-45EE-A8DB-4CDD6132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7DE27-2D33-418B-8231-1052078A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6AEBB-C79B-4914-99B0-20378FBE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295E3-BCC5-48A2-91BF-1339CA3A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1E5AC-C229-4AE2-A75F-1F5CE42A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23D0F-F25A-4AA9-9DBB-A0714F56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8781F-9520-4ED7-A044-0142124C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4022B-C557-4F32-8010-5838EABA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03D-C8C7-4B48-936C-83B6B1E0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15B3-EEE0-496C-A70E-82549712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02A9B-8AFA-4A3E-A32E-B1A151C0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7029A-C80D-43B5-9F7D-9EE45BFA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E8CA9-4209-4563-BF60-AF987F42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B1EB3-C8BD-4330-9D20-E0364FA7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E2C54-4CC4-4064-925B-A7733F65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509C1-0D11-4130-AB8E-902DEF8A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2DD31-00DF-4798-9C4D-EAE2EC5D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D680F-232C-4C50-9FFC-48242C46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F577F-D622-41A7-AD1F-631845C3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BFD-90DB-4ED6-874B-9B1D07CF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4213E-D54B-4822-AC5C-42C6EF6B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6095D-D4CB-44A8-880E-C155C094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8A8E2-A3BC-4290-9621-C64605C8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72C50-5858-4669-8BF2-8B968EDF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29987-7C6C-4E9D-8941-896244A2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E1E-17D2-442D-9097-809D434C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4FB8-9704-44CA-8093-CFAC18081A6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CD7C-1E46-4EC8-8A17-B28149C0326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11C2-8AB0-48E7-BAE2-56107BA5611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87C0-C120-4312-A6FF-BFEFB64C46E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2F5F-D0B5-48C9-8322-06418164E8C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C7D5-6DD3-4451-8987-45B0ACBA346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ABB5-0467-49E5-95F7-A3AA625A5EE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740736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IGERS Schema Review Proce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5943600" y="502920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ebruary 4,  2009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Jared Sil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atemef@rsimail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ndards - Nam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7" name="Content Placeholder 2" descr=""/>
          <p:cNvPicPr/>
          <p:nvPr/>
        </p:nvPicPr>
        <p:blipFill>
          <a:blip r:embed="rId1"/>
          <a:stretch/>
        </p:blipFill>
        <p:spPr>
          <a:xfrm>
            <a:off x="1432080" y="1444680"/>
            <a:ext cx="7510320" cy="36702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3"/>
          <p:cNvSpPr/>
          <p:nvPr/>
        </p:nvSpPr>
        <p:spPr>
          <a:xfrm>
            <a:off x="1828800" y="5334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(stateSchemaVersion can have a “fixed” or “enumerated” value for backwards compatibility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ndards-Naming/Packag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2628720" cy="16128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8"/>
          <p:cNvSpPr/>
          <p:nvPr/>
        </p:nvSpPr>
        <p:spPr>
          <a:xfrm>
            <a:off x="5105520" y="1371600"/>
            <a:ext cx="2743200" cy="22885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HDebit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inaryAttachment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fileTypes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inancialTransaction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turnHeader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ateDirectDeposit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ateeFileTypes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52" name="Elbow Connector 12"/>
          <p:cNvCxnSpPr>
            <a:endCxn id="351" idx="1"/>
          </p:cNvCxnSpPr>
          <p:nvPr/>
        </p:nvCxnSpPr>
        <p:spPr>
          <a:xfrm flipV="1">
            <a:off x="3263760" y="2391480"/>
            <a:ext cx="1829520" cy="737640"/>
          </a:xfrm>
          <a:prstGeom prst="bentConnector3">
            <a:avLst>
              <a:gd name="adj1" fmla="val 49990"/>
            </a:avLst>
          </a:prstGeom>
          <a:ln w="9360">
            <a:solidFill>
              <a:srgbClr val="3891a7"/>
            </a:solidFill>
            <a:miter/>
          </a:ln>
        </p:spPr>
      </p:cxnSp>
      <p:sp>
        <p:nvSpPr>
          <p:cNvPr id="353" name="TextBox 13"/>
          <p:cNvSpPr/>
          <p:nvPr/>
        </p:nvSpPr>
        <p:spPr>
          <a:xfrm>
            <a:off x="5105520" y="3581280"/>
            <a:ext cx="3733560" cy="916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dividualReturnHeaderState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dividualStateEnumerations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54" name="Elbow Connector 15"/>
          <p:cNvCxnSpPr>
            <a:endCxn id="353" idx="1"/>
          </p:cNvCxnSpPr>
          <p:nvPr/>
        </p:nvCxnSpPr>
        <p:spPr>
          <a:xfrm>
            <a:off x="3720960" y="3362400"/>
            <a:ext cx="1372320" cy="552960"/>
          </a:xfrm>
          <a:prstGeom prst="bentConnector3">
            <a:avLst>
              <a:gd name="adj1" fmla="val 49986"/>
            </a:avLst>
          </a:prstGeom>
          <a:ln w="9360">
            <a:solidFill>
              <a:srgbClr val="3891a7"/>
            </a:solidFill>
            <a:miter/>
          </a:ln>
        </p:spPr>
      </p:cxnSp>
      <p:sp>
        <p:nvSpPr>
          <p:cNvPr id="355" name="TextBox 16"/>
          <p:cNvSpPr/>
          <p:nvPr/>
        </p:nvSpPr>
        <p:spPr>
          <a:xfrm>
            <a:off x="5105520" y="4362480"/>
            <a:ext cx="2209680" cy="916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xeFileTypes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mABC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cheduleXYZ.xs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56" name="Elbow Connector 18"/>
          <p:cNvCxnSpPr>
            <a:endCxn id="355" idx="1"/>
          </p:cNvCxnSpPr>
          <p:nvPr/>
        </p:nvCxnSpPr>
        <p:spPr>
          <a:xfrm>
            <a:off x="3416400" y="3666960"/>
            <a:ext cx="1676880" cy="1167480"/>
          </a:xfrm>
          <a:prstGeom prst="bentConnector3">
            <a:avLst>
              <a:gd name="adj1" fmla="val 49989"/>
            </a:avLst>
          </a:prstGeom>
          <a:ln w="9360">
            <a:solidFill>
              <a:srgbClr val="3891a7"/>
            </a:solidFill>
            <a:miter/>
          </a:ln>
        </p:spPr>
      </p:cxnSp>
      <p:sp>
        <p:nvSpPr>
          <p:cNvPr id="357" name="TextBox 23"/>
          <p:cNvSpPr/>
          <p:nvPr/>
        </p:nvSpPr>
        <p:spPr>
          <a:xfrm>
            <a:off x="5105520" y="5486400"/>
            <a:ext cx="3047760" cy="146556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dividualReturnxxNNN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dividualReturnxxYYY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turnDataxxNNN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turnDataxxYYY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58" name="Group 61"/>
          <p:cNvGrpSpPr/>
          <p:nvPr/>
        </p:nvGrpSpPr>
        <p:grpSpPr>
          <a:xfrm>
            <a:off x="3505320" y="3886200"/>
            <a:ext cx="1599840" cy="2135160"/>
            <a:chOff x="3505320" y="3886200"/>
            <a:chExt cx="1599840" cy="2135160"/>
          </a:xfrm>
        </p:grpSpPr>
        <p:sp>
          <p:nvSpPr>
            <p:cNvPr id="359" name="Straight Connector 47"/>
            <p:cNvSpPr/>
            <p:nvPr/>
          </p:nvSpPr>
          <p:spPr>
            <a:xfrm>
              <a:off x="3505320" y="3886200"/>
              <a:ext cx="457200" cy="144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60" name="Straight Connector 49"/>
            <p:cNvSpPr/>
            <p:nvPr/>
          </p:nvSpPr>
          <p:spPr>
            <a:xfrm flipH="1">
              <a:off x="3962520" y="3886920"/>
              <a:ext cx="720" cy="213300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61" name="Straight Connector 52"/>
            <p:cNvSpPr/>
            <p:nvPr/>
          </p:nvSpPr>
          <p:spPr>
            <a:xfrm flipH="1" flipV="1">
              <a:off x="3962160" y="6019920"/>
              <a:ext cx="1143000" cy="144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62" name="TextBox 68"/>
          <p:cNvSpPr/>
          <p:nvPr/>
        </p:nvSpPr>
        <p:spPr>
          <a:xfrm>
            <a:off x="1143000" y="4952880"/>
            <a:ext cx="2362320" cy="119124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mNNN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mYYY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cheduleA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ksIII.xs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traight Connector 72"/>
          <p:cNvSpPr/>
          <p:nvPr/>
        </p:nvSpPr>
        <p:spPr>
          <a:xfrm>
            <a:off x="3505320" y="4114800"/>
            <a:ext cx="22860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Straight Connector 74"/>
          <p:cNvSpPr/>
          <p:nvPr/>
        </p:nvSpPr>
        <p:spPr>
          <a:xfrm flipH="1">
            <a:off x="3733920" y="4116240"/>
            <a:ext cx="1440" cy="1293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Straight Connector 90"/>
          <p:cNvSpPr/>
          <p:nvPr/>
        </p:nvSpPr>
        <p:spPr>
          <a:xfrm flipH="1" flipV="1">
            <a:off x="3504960" y="5409720"/>
            <a:ext cx="22860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ndards – Defining Your For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7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59000"/>
            <a:ext cx="7510320" cy="3371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3200400" y="4343400"/>
            <a:ext cx="31240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ndards – “Include By Ref”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ms should be included by reference in ReturnDataState (ReturnDataSS1040.xsd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TextBox 3" descr=""/>
          <p:cNvPicPr/>
          <p:nvPr/>
        </p:nvPicPr>
        <p:blipFill>
          <a:blip r:embed="rId2"/>
          <a:stretch/>
        </p:blipFill>
        <p:spPr>
          <a:xfrm>
            <a:off x="1011240" y="2255760"/>
            <a:ext cx="71578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ndards – Duplication of Heade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void creating elements in Form schemas that duplicate TIGERS Standard Header ele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parer infor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x peri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ler infor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nded retur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ther Stand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5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11120"/>
            <a:ext cx="76327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st Practic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ustom complex types libr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oid defining the same element more than o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equired vs Optional element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y elements that are necessary fo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val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m submission should be required (minOccurs=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ements that are not necessary (can take a $0 value) should be optional (minOccurs=“0”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nnotations should follow prescribed pattern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Literals in element nam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ead of referencing tax year (“Overpayment2007”),  use “CurrentYear”, “PriorYear”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ead of referencing line numbers (“AddLine6AndLine8”), be more descriptive (“AddPaymentsAndCredits”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st Practic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roup common elements in schema (Additions, Subtractions, etc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Type u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oleanType vs (optional) CheckboxTy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ountType vs USAmountType vs USAmountNNType vs USAmountPosTy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void limiting repeating ele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. Form only has 3 lines for dependents, eFile restricted only by your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mon Form Stru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ultiple columns on a form (tabl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ther” &amp; Explan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ck one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mon Form Structures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ultiple columns (table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47560" y="1523520"/>
            <a:ext cx="7497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mmon to have a column for Taxpayer and Spous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mmon to have a table in a worksheet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Define a complex typ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4" name="Rectangle 3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7450200" cy="1792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3"/>
          <a:stretch/>
        </p:blipFill>
        <p:spPr>
          <a:xfrm>
            <a:off x="2057400" y="4800600"/>
            <a:ext cx="5664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veloping Your Schem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sit http://www.statemef.com to download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ackground document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(Resources / Important Documents / Background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IGERS standard schemas for Individual or Corporate/Partnership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(Projects / Individual Income 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OR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Projects / Corporate/Partnership / TY2008 / Forms Based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ample Schema packag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(Projects / Individual Incom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IGERS Standards, Best Practices, etc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(Resources / Important Documents / Current Statu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219320" y="4699080"/>
            <a:ext cx="77198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mon Form Structures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ultiple columns (table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7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90680"/>
            <a:ext cx="7510320" cy="53211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41148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mon Form Structures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ther and Explan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47560" y="1523880"/>
            <a:ext cx="7497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other good candidate for a complex t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Rectangle 3" descr=""/>
          <p:cNvPicPr/>
          <p:nvPr/>
        </p:nvPicPr>
        <p:blipFill>
          <a:blip r:embed="rId2"/>
          <a:stretch/>
        </p:blipFill>
        <p:spPr>
          <a:xfrm>
            <a:off x="1407960" y="2103480"/>
            <a:ext cx="7437600" cy="1882800"/>
          </a:xfrm>
          <a:prstGeom prst="rect">
            <a:avLst/>
          </a:prstGeom>
          <a:ln w="0">
            <a:noFill/>
          </a:ln>
        </p:spPr>
      </p:pic>
      <p:pic>
        <p:nvPicPr>
          <p:cNvPr id="392" name="Rectangle 5" descr=""/>
          <p:cNvPicPr/>
          <p:nvPr/>
        </p:nvPicPr>
        <p:blipFill>
          <a:blip r:embed="rId3"/>
          <a:stretch/>
        </p:blipFill>
        <p:spPr>
          <a:xfrm>
            <a:off x="1255680" y="3932280"/>
            <a:ext cx="743760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mon Form Structures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heck On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4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41360"/>
            <a:ext cx="75103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ions? Comments? Concern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6" name="Rectangle 4" descr=""/>
          <p:cNvPicPr/>
          <p:nvPr/>
        </p:nvPicPr>
        <p:blipFill>
          <a:blip r:embed="rId1"/>
          <a:stretch/>
        </p:blipFill>
        <p:spPr>
          <a:xfrm>
            <a:off x="785880" y="-1292400"/>
            <a:ext cx="8808840" cy="817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t Reviewed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920"/>
            <a:ext cx="7499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Email your package to statemef@rsimail.com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eel free to send mid-development to make sure you’re on the right trac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You can get approved without implementing all of your form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clude PDF forms for reference, sample XML instance,  any questions/comments the review team should consid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 package is placed on a private website accessible to the review team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Review team consists of both state and industry representatives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Review turnaround within 3 weeks, result can be “Approved”, “Conditionally Approved”, “Resubmit Required”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view comments provid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view Websi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9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rdered by submission da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istory of who has submitted, date reviewed, green checkmark for approv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905120" y="2344680"/>
            <a:ext cx="57229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view Statistic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rporate/Partnershi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6 states submitted pack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3 states appro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dividu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4 states submitted pack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3 states appro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 states have been approved for both packa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verage of 1.9 reviews per approved packa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 Process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What We Look Fo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tandards - MUST be implemented properly for approva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alid X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ming conven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ckag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of TIGERS standard schem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Best Practices - meant to guide development but are not necessary to implement for approva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ptional vs required ele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of complex typ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nota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ndards – XML Valid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0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90680"/>
            <a:ext cx="6956280" cy="5168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346716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ndards - Nam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ackage name” should be consistent across package zip file, top level folder, stateSchemaVersion attribut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SIndividualYYYYv#.#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S = State co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YYY = Tax Ye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#.# = incremental version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(please increment your version for every review submission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. SCIndividual2008v1.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crement “minor” versions when package/schemas are backwards compat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ndards - Nam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960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4:53:51Z</dcterms:created>
  <dc:creator>Jared Silver</dc:creator>
  <dc:description/>
  <dc:language>en-US</dc:language>
  <cp:lastModifiedBy>Jared Silver</cp:lastModifiedBy>
  <dcterms:modified xsi:type="dcterms:W3CDTF">2009-02-04T20:14:34Z</dcterms:modified>
  <cp:revision>82</cp:revision>
  <dc:subject/>
  <dc:title>TIGERS Schema Review Process</dc:title>
</cp:coreProperties>
</file>